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32AB-5F69-43A1-9D59-D626E3BDB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A5DE-767A-46DC-A61F-2FD9B238241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01F4-F506-4F6C-AE4F-087110A525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4FC6-D329-4CD1-A0D5-A99D93C27F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8452-F511-4BE3-9272-2C9DD2D59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4BD-AC51-4452-8A92-09BA8A2C30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2B8A-FCC9-4F2D-AB9D-77C51F20A2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D01D-8789-414B-90A3-BD28BF27B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8692-CC32-4E2D-83DA-CF0635D001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4D27-F9CF-4574-A02B-81B9FD7D4D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35DF-5384-4CD6-8B3C-6199D71088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1A6-DC5B-4635-B757-2CA425B0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80ED-5686-427D-A5A0-F2935AD0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6E9C-8E09-4193-B315-38B4EDD2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3A-1409-41FE-84D9-50D0B624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24F-8461-42E7-AD2D-0224C3B5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E43E-E351-4D9B-94F5-38A12CAB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6E86-36D7-4D5B-A43C-D61CACDF2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35B-C9C6-4468-8B75-0F4FEDF44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694-172E-48CC-9F96-8D9CEECD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2A3B-E164-423E-87A8-3F238F06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A4-C85C-449D-B45D-9B76E92D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3BCF-A502-41AE-A542-42431EEA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A7D8-65A3-45AB-9C6E-3C4D391F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01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F2F1-345D-492F-BF10-21D2F52371D3}" type="slidenum">
              <a:rPr b="0" lang="en-US" sz="1400" spc="-1" strike="noStrike">
                <a:solidFill>
                  <a:srgbClr val="000000"/>
                </a:solidFill>
                <a:latin typeface="Palatino Linotype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КОМПЛИКАЦИЈЕ У ОПШТОЈ АНЕСТЕЗИЈИ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АНЕСТЕЗ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14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Узроци компликација, последице компликација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</a:t>
            </a:r>
            <a:r>
              <a:rPr b="1" i="1" lang="sr-RS" sz="1400" spc="-1" strike="noStrike">
                <a:solidFill>
                  <a:srgbClr val="000000"/>
                </a:solidFill>
                <a:latin typeface="Palatino Linotype"/>
              </a:rPr>
              <a:t>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9400" y="6180120"/>
            <a:ext cx="78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Copyright © 20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20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  <a:ea typeface="Arial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58BD-FEFF-4B95-A7F9-E1DFC5B9D7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6" name="Picture 6" descr="imagesCAXMA212.jpg"/>
          <p:cNvPicPr/>
          <p:nvPr/>
        </p:nvPicPr>
        <p:blipFill>
          <a:blip r:embed="rId1"/>
          <a:srcRect l="655" t="0" r="0" b="3594"/>
          <a:stretch/>
        </p:blipFill>
        <p:spPr>
          <a:xfrm>
            <a:off x="2467080" y="3632040"/>
            <a:ext cx="4084560" cy="25434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463680" y="1628640"/>
            <a:ext cx="83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ртефицијална вентилација у току ове компликације је отеж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Брза терапија представља предуслов за опоравак пациј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7BC7-ED17-4234-8014-BEE834A4CA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476280" y="18032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неумотора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pneumo.bmp"/>
          <p:cNvPicPr/>
          <p:nvPr/>
        </p:nvPicPr>
        <p:blipFill>
          <a:blip r:embed="rId1"/>
          <a:stretch/>
        </p:blipFill>
        <p:spPr>
          <a:xfrm>
            <a:off x="2206800" y="2394000"/>
            <a:ext cx="4510080" cy="270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8"/>
          <p:cNvSpPr/>
          <p:nvPr/>
        </p:nvSpPr>
        <p:spPr>
          <a:xfrm>
            <a:off x="376200" y="5473800"/>
            <a:ext cx="850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већан доток гасова доводи до прекомерне дистензије алвеола и руптуре плућног паренх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17B1-D449-4A7D-89FD-949788603E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63680" y="1716120"/>
            <a:ext cx="8142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аздушна ембол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514440" y="2604960"/>
            <a:ext cx="82166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првенствено хируршку компликацију код које долази до уласка мехурића ваздуха у циркулацију најчешће венским пу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алигна хипертер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о је синдром проузрокован хиперметаболичким стањем скелетних мишића који настаје у генетски предиспонираним особама и то након излагања одређеним анестетицима који представљају окидаче за појаву овог синдро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651D-01A8-4D15-9927-15E0CDB6A3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88880" y="2079720"/>
            <a:ext cx="8116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време извођења опште ендотрахеалне анестезије могу се појавити одређене, мање или веће ком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Грешке обично настају усред низа несретних околности, техничких проблема, журбе, преоптерећености и ум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еке од компликација се могу спречити, као што су : људске грешке и проблеми са опрем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Друге компликације као што су анафилактичке реакције не могу се спречити, али се могу успешно третира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2B93-C37B-4F5D-AAED-43ABF99643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01480" y="1916280"/>
            <a:ext cx="8178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јчешће компликације су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  Неадекватна вентилација плу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Хипотен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ритм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ус појаве датих фармаколошких средст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A489-348D-44E5-830D-A48EC6A7BE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88880" y="1879560"/>
            <a:ext cx="8229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омпликације најчешће доводе до поремећаја ра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Респиратор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ардиоваскулар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Централног нервн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7C03-83A1-427E-8E50-BB86AC02BF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63680" y="1866960"/>
            <a:ext cx="820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време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вод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 анестезију, могу настати повреде усне дупље и горњих дисајних путева, регургитација и аспирација желудачног садржаја, ларингоспазам, бронхоспазам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За време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рајањ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е, могу настати хипоксемија, хиперкапнија, опструкција дисајних путева, пнеумоторакс, деконекција тубус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1" i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крају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е, нагла екстубација пацијента може довести до аспирације страног садржаја, инсуфијенције дисања, ларингоспазма, бронхоспа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A581-1A48-4E2D-9773-CE4CA48EB9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63680" y="1703520"/>
            <a:ext cx="82915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ужено бу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успорено буђење, као и проблеми са дисањем у постанестетичком периоду могу настати због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ног деловања опиоидних аналгети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оксигенација, Налокс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е реверзије неуромускуларног бло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подстицање пацијента на дисање, Неостиг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ужено деловање инхалационог анестетик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оксиген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B4DC-0B46-4B45-832C-5D239E5C02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76280" y="1967040"/>
            <a:ext cx="817884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раћање и аспирација садржа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нестезија – празан стома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спирација желудачног садржаја представља значајан фактор морталитета пације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ацијенти који се подвргавају хируршкој интервенцији, прекидају унос хране 8 сати пре интервен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4CFD-E3BC-4548-AB6B-E692C89ABF7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01480" y="1803240"/>
            <a:ext cx="815364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Ларингоспа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нежељени рефлексни мишићни одговор који доводи до потпуне или делимичне опструкције ларинг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Може настати због: болних надражаја, секрета и повраћеног садржаја у дисајним путевима, присуства ендотрахеалног тубуса, површне анестезије и стимулација након вађења ендотрахеалног тубу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Уколико се хитно не успостави вентилација, хипоксија се продубљује и може довести до срчаног засто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C5AA-5F6F-4387-85B6-37C90DDC851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600" spc="-1" strike="noStrike">
                <a:solidFill>
                  <a:srgbClr val="000066"/>
                </a:solidFill>
                <a:latin typeface="Arial"/>
              </a:rPr>
              <a:t>Компликације опште анестезије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525600" y="1841400"/>
            <a:ext cx="8029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Бронхоспаз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 рефлексну констрикцију глатке мускулатуре бронхи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bro.bmp"/>
          <p:cNvPicPr/>
          <p:nvPr/>
        </p:nvPicPr>
        <p:blipFill>
          <a:blip r:embed="rId1"/>
          <a:srcRect l="7107" t="21679" r="7140" b="10503"/>
          <a:stretch/>
        </p:blipFill>
        <p:spPr>
          <a:xfrm>
            <a:off x="2179800" y="3457440"/>
            <a:ext cx="4759200" cy="27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ds</dc:creator>
  <dc:description/>
  <dc:language>en-US</dc:language>
  <cp:lastModifiedBy>Stefan</cp:lastModifiedBy>
  <dcterms:modified xsi:type="dcterms:W3CDTF">2020-02-14T07:40:34Z</dcterms:modified>
  <cp:revision>810</cp:revision>
  <dc:subject/>
  <dc:title>NAZIV PREDAVANJA</dc:title>
</cp:coreProperties>
</file>